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A70-8B12-4E36-9B18-E96D7A32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1FE-4503-44C6-B56C-322C9BFE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701-1AD2-420C-B469-DC65ACA5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FB4-99A7-4706-B6F2-86587485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806-88E5-4130-B058-7B89C984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486-2067-4781-AE77-759ABC25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0ECD-BA79-4CDC-8C46-B7FF5912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B8C-9334-4056-8321-287E7EEE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D46-374E-462E-ACEE-B0BB92F2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E17-58AA-4CC0-944B-B67B05A1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714-26D1-417F-B42D-22186D8D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1C33-6786-4B7F-99D4-C1C1A4E7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2A68-926B-4D8A-ADAB-040194412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7:11:52Z</dcterms:created>
  <dc:creator>abeason</dc:creator>
  <dc:description/>
  <dc:language>en-US</dc:language>
  <cp:lastModifiedBy>abeason</cp:lastModifiedBy>
  <dcterms:modified xsi:type="dcterms:W3CDTF">2009-11-17T17:12:02Z</dcterms:modified>
  <cp:revision>1</cp:revision>
  <dc:subject/>
  <dc:title>Slide 1</dc:title>
</cp:coreProperties>
</file>